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5BFB-55B0-45DC-B3D6-D19309B8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788-3D42-4A25-8490-836B5122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F48-FA90-46A0-84D7-D62BF17F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044-7101-46ED-A689-678742A7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E20-7434-4E33-A247-2F20B8A2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C46-8371-40F9-9C25-CE781774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644-B54A-4D28-906F-19B3451A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9F9-F148-4286-9BE7-60BB1132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152-BB96-48E6-8F78-9FD48B9D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257-1D89-40B3-BDD4-F8A50486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646-BED3-4DA9-A7EB-D61F52C0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25D-BE57-4A92-94ED-B7E9B544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0CE1-DB4B-415E-AA5E-1934F92F8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2280" y="10418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b_uni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66680" cy="1323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9280" y="2924280"/>
            <a:ext cx="896472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адиционална биљна медиц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ковите биљке као састојци функционалне хране и дијететских суплемен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проф. др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нежана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уп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1557360"/>
            <a:ext cx="33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УНИВЕРЗИТЕТ У КРАГУЈЕВ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ФАКУЛТЕТ МЕДИЦИНСКИХ НАУ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07920"/>
            <a:ext cx="9144000" cy="45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олистички принцип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(заступљен у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инеск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ј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и индијск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ј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медицин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)-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једна биљка делује на организам у целини.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ндијска фармакопеја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то добро приказуј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војом структу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З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ападн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ј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Европ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биљни лек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адржи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једн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биљк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или њен екстракт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или је комбинације различитих биљака, али је у сваком случају 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еловање циљ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но на један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орган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или систем органа, а  обично је деловање већ дуго времен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позна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Биљни лек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е прави о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свежег или сувог биљног материјала или екстракта неког дела биљке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 Често је намењен з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ревенциј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или сузбијање јасно одређених симптома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, због чег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ичи на конвенционал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0000"/>
                </a:solidFill>
                <a:latin typeface="Arial"/>
              </a:rPr>
              <a:t>УЗРОЦИ ВЕЛИКИХ РАЗЛИКА У ПРИСТУПУ КОРИШЋЕЊА БИЉНИХ ЛЕ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0000"/>
                </a:solidFill>
                <a:latin typeface="Arial"/>
              </a:rPr>
              <a:t>Који лек може да потиче од лековите биљке, а да се ипак не сматра биљним леком или традиционалним биљним лек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9036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стоји неоправдана тенденција да се 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област биљних лекова сврставају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 хомеопатски леков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, због тога што се неки од њих праве од лековитих биљ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Хомеопатски лек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 разликује од биљног лека не само зато што не садржи материјалне доз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уп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танц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биљног или неког другог порекла), већ и по томе што се припрема посебном технологијом разблаживања, а што није случај код биљиних ле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новна каракетеристика хомеопатског лека је да код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дравог човека изаз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симптоме налик онима које може да сузбиј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д боле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меопатски лек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 делује на нивоу материјалне фамакологије као биљни лек, већ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ивоу информационе фармакологије. По саставу може бити биљног, али и не само биљног, већ и минералног и животињског поре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125360"/>
            <a:ext cx="849780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Класификациј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је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отежан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биљни лекови у неким земљама као медицински препарати са дефинисаним терапијским дејством, у другим регистровани као дијететски прапарати без посебних терапијских захтева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САД-у не спадају у категорију лекова које регулише FDA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вечћ су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регулисани посебним законским актом о дијететским додацима исхрани – Dietary Supplement Health and Education 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ројни проблем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пракси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(присуство биљних супстанци опасних по здравље, недостатак употребе GMP, лоша сигнатура производа, неадекватно извештавање о нежељеним ефектима и др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85720" y="404640"/>
            <a:ext cx="58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0000"/>
                </a:solidFill>
                <a:latin typeface="Arial"/>
              </a:rPr>
              <a:t>РЕГУЛАТИВА БИЉНИХ ЛЕ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892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профилу биљног производа или биљног лек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P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erbal Medicinal Product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 могу да варирај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захтев за ауторизаци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– од ниских до комплексних услова за ауторизацију биљног 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изводни услов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– од ниских (аналитички неконтролисане смеше биљака) до софистицираних фармацеутских облика или метода за припрему (екстракција суперкритичним угљен-диоксидом, стандардизација ит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0000"/>
                </a:solidFill>
                <a:latin typeface="Arial"/>
              </a:rPr>
              <a:t>Регистрација биљног производа – 3 нач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1. Потпуна пријава  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исти начин као и за било коју супстанцу хемијско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извођач мора да има сопствене студије ефик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2. Потврђена употреб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извођач научно документује потврђену корист од  медицинске употребе биљног препарата у трајању од најмање 10 година у Европи при чему је употреба била оправдана и безбед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3. Традиционална употреб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љни производ је у употреби најмање 30 година од којих 15 година у Европи. У употреби су углавном ниже дозе оваквих пре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 све три врсте пријаве за регистрациоју мора постојати одговарајућа потврда квалитета фармацеутске производ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чит ниво научних доказа у зависности од типа регистр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 је јасна чињеница само за произвођаче и регулаторне институције, али не и за потрошаче тј. пациј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ема рационалне основе за употребу великог броја биљних производа на тржиш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За биљне препарате присутне у Европи различити нивои информација о  фармаколошкој ефик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псег од слабих студија (мали број пацијената, неконтролисана студија, нерандомизирана студија итд.) до научно беспрекорно дизајнираних студиј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00"/>
                </a:solidFill>
                <a:latin typeface="Arial"/>
              </a:rPr>
              <a:t>Отежавајући фактори у спровођењу студија о ефикасности биљних лек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е проучава се биљка, већ тачно дефинисани екстракт лековите биљ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ређење ефикасности студија се може обавити само када је у студијама коришћен идентичан екстра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али број пацијената укључениху студ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едовољан период трајања студ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епрецизно дефинисани закључ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чињеница да произвођач финансира истраживање често оспорава валидност добијених података, иако то исто важи за хемијске лек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0000"/>
                </a:solidFill>
                <a:latin typeface="Arial"/>
              </a:rPr>
              <a:t>Начин спровођења студ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00"/>
                </a:solidFill>
                <a:latin typeface="Arial"/>
              </a:rPr>
              <a:t>Нема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man Research Foundation (DFG)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ј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ституција која финансира базична истраживања, али истраживања у области фитотерапије су занемарљи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Остале институције које могу да финансирају фитотерапијска истраживања су министарство економије или министарство образовања и науке и Европска комисиј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Пошто је циљ истраживања развој препарата, увек је укључен и произвођ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00"/>
                </a:solidFill>
                <a:latin typeface="Arial"/>
              </a:rPr>
              <a:t>САД</a:t>
            </a:r>
            <a:r>
              <a:rPr b="0" lang="sr-C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страживањима се бави владина организациј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Center for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mentary and Integrated Health (NCCIH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бивш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ational Center for Complementary and Alternative Medicine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CAM),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а који је де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Institutes of Health (NI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CIH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финасира све типове истраживања укључујући и опсервационе и клиничке студ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00"/>
                </a:solidFill>
                <a:latin typeface="Arial"/>
              </a:rPr>
              <a:t>Кина</a:t>
            </a:r>
            <a:r>
              <a:rPr b="0" lang="sr-C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У великој мери спроводи фармакогнозијске студије на биљкама које су у употреби у традиционалној кинеској медицини, у циљу ширења овог приступа лечењ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елик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разлик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у класификацији биљних леков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земљама чланицама Европске Ун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0000"/>
                </a:solidFill>
                <a:latin typeface="Arial"/>
              </a:rPr>
              <a:t>1989. – </a:t>
            </a:r>
            <a:r>
              <a:rPr b="1" lang="pl-PL" sz="2000" spc="-1" strike="noStrike">
                <a:solidFill>
                  <a:srgbClr val="990000"/>
                </a:solidFill>
                <a:latin typeface="Arial"/>
              </a:rPr>
              <a:t>ESCOP</a:t>
            </a:r>
            <a:r>
              <a:rPr b="1" lang="sr-CS" sz="2000" spc="-1" strike="noStrike">
                <a:solidFill>
                  <a:srgbClr val="990000"/>
                </a:solidFill>
                <a:latin typeface="Arial"/>
              </a:rPr>
              <a:t> – </a:t>
            </a:r>
            <a:r>
              <a:rPr b="1" lang="sr-Latn-CS" sz="2000" spc="-1" strike="noStrike">
                <a:solidFill>
                  <a:srgbClr val="990000"/>
                </a:solidFill>
                <a:latin typeface="Arial"/>
              </a:rPr>
              <a:t>Европска научна кооператива за </a:t>
            </a:r>
            <a:r>
              <a:rPr b="1" lang="sr-CS" sz="2000" spc="-1" strike="noStrike">
                <a:solidFill>
                  <a:srgbClr val="990000"/>
                </a:solidFill>
                <a:latin typeface="Arial"/>
              </a:rPr>
              <a:t>ф</a:t>
            </a:r>
            <a:r>
              <a:rPr b="1" lang="sr-Latn-CS" sz="2000" spc="-1" strike="noStrike">
                <a:solidFill>
                  <a:srgbClr val="990000"/>
                </a:solidFill>
                <a:latin typeface="Arial"/>
              </a:rPr>
              <a:t>итотерап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990000"/>
                </a:solidFill>
                <a:latin typeface="Arial"/>
              </a:rPr>
              <a:t>(European Scientific Cooperative on Phythotherapy</a:t>
            </a:r>
            <a:r>
              <a:rPr b="1" lang="sr-CS" sz="2000" spc="-1" strike="noStrike">
                <a:solidFill>
                  <a:srgbClr val="990000"/>
                </a:solidFill>
                <a:latin typeface="Arial"/>
              </a:rPr>
              <a:t>)-</a:t>
            </a:r>
            <a:r>
              <a:rPr b="1" lang="pl-PL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шест националних научних организација Европске Уније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фитотерапијске организације објед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љене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на европском нивоу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, а д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анас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куп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националних удружења из Европе,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кључујући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и Амерички ботанички савет (American Botanical Council). ESCOP је публиковао 80 монографија за појединачне биљне лек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0000"/>
                </a:solidFill>
                <a:latin typeface="Arial"/>
              </a:rPr>
              <a:t>1997. </a:t>
            </a:r>
            <a:r>
              <a:rPr b="1" lang="sr-CS" sz="20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lang="pl-PL" sz="2000" spc="-1" strike="noStrike">
                <a:solidFill>
                  <a:srgbClr val="990000"/>
                </a:solidFill>
                <a:latin typeface="Arial"/>
              </a:rPr>
              <a:t> радна група </a:t>
            </a:r>
            <a:r>
              <a:rPr b="1" lang="sr-CS" sz="2000" spc="-1" strike="noStrike">
                <a:solidFill>
                  <a:srgbClr val="990000"/>
                </a:solidFill>
                <a:latin typeface="Arial"/>
              </a:rPr>
              <a:t>- </a:t>
            </a:r>
            <a:r>
              <a:rPr b="1" lang="pl-PL" sz="2000" spc="-1" strike="noStrike">
                <a:solidFill>
                  <a:srgbClr val="990000"/>
                </a:solidFill>
                <a:latin typeface="Arial"/>
              </a:rPr>
              <a:t>Working Group on Herbal Medicinal Products (HMPWG)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на иницијативу Европског Савета и садашње Европске агенције за лекове (бивше Европске агенције за евалуацију лекова - ЕМЕ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ницијално користила монографије ESCOP-a да би развила формат Европског закључка о карактеристикама производа (European Summary of Product Characteristics - SP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аследио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ју је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Комитет за биљне лекове (Herbal Medicinal Product Committee – HMPC)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ји је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настав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о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сарадњу са ESCOP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м, а данас биљне монографије објављује ЕМА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48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ssment report on Arctostaphylos uva-ursi (L.) Spreng., foli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/HMPC/573462/2009 Page 2/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of contents ...................................................................................................................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Introduction....................................................................................................................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. Description of the herbal substance(s), herbal preparation(s) or combinations thereof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2. Information about products on the market in the Member States 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3. Search and assessment methodology....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Historical data on medicinal use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. Information on period of medicinal use in the Community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2. Information on traditional/current indications and specified substances/preparations 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3. Specified strength/posology/route of administration/duration of use for re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tions and indications.......................................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Non-Clinical Data .............................................................................................................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. Overview of available pharmacological data regarding the herbal substance(s), her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tion(s) and relevant constituents thereof........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.1. Primary pharmacodynamic effects....................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.2. Secondary pharmacodynamic effects................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.3. Pharmacodynamic drug interactions................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2. Overview of available pharmacokinetic data regarding the herbal substance(s), herbal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tion(s) and relevant constituents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of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3. Overview of available toxicological data regarding the herbal substance(s)/her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tion(s) and constituents thereof 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 1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4. Overall conclusions on non-clinical data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 2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Рационална фитотерапиј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коришћење хербалних лекова на бази научних података о њиховом дејству у превенцији или лечењу бол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Лекове на бази лековитог биља користи 80% светског становништв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в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 Европи присутна дуга традиција коришћења биљних препарата било као самостални третман, а много чешће као адјувантни третман уз конвенционалну терап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 осталим деловима света различити биљни производи који су ча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 део конвенционалне здравстевене зашт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79480" y="6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67360" y="216000"/>
            <a:ext cx="61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00"/>
                </a:solidFill>
                <a:latin typeface="Arial"/>
              </a:rPr>
              <a:t>ТРАДИЦИОНАЛНА БИЉНА МЕДИЦ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99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00"/>
                </a:solidFill>
                <a:latin typeface="Arial"/>
              </a:rPr>
              <a:t>РАЦИОНАЛНА ФИТ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Clinical Data...............................................................................................................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...2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1. Clinical Pharmacology ......................................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2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1.1. Overview of pharmacodynamic data regarding the herbal substance(s)/prepar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data on relevant constituents...................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 2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1.2. Overview of pharmacokinetic data regarding the herbal substance(s)/prepar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data on relevant constituents.....................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2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2. Clinical Efficacy...............................................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2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2.1. Dose response studies.................................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 2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2.2. Clinical studies (case studies and clinical trials)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 2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2.3. Clinical studies in special populations (e.g. elderly and children)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2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3. Overall conclusions on clinical pharmacology and efficacy 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 2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Clinical Safety/Pharmacovigilance...............................................................................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..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.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1. Overview of toxicological/safety data from clinical trials in humans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2. Patient exposure............................................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.........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3. Adverse events and serious adverse events and deaths 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4. Laboratory findings ..........................................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......,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5. Safety in special populations and situations ....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3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6. Overall conclusions on clinical safety...............................................................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............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 3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Overall conclusions.........................................................................................................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,,,,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3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ex ..................................................................................................................................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,,,,,,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ssment report on Arctostaphylos uva-ursi (L.) Spreng., foli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/HMPC/573462/2009 Page 2/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ативна препорука у монографији се даје када је биљка превише токсична за слободну продају без рецепта или постоји недовољно података да би се дала позитивна препор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mmision 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престала са евалуацијом монографија 1994.г. а све објављене монографије до тада су предведене и на енглески јез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 1994 .г. је уведена промена у начину одобравања биљних лекова за тржиште у Немачкој – биљни лек се одобрава на основ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игиналних студија о ефикасности и безбедности –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ционални биљни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гогодишњег искуства у традиционалној медицини што подразумева коришћење одговрајућег речника (“благо дејство, за побољшање здравља, виталности, функција организма”)–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радиционални биљни лек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333360"/>
            <a:ext cx="835164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0000"/>
                </a:solidFill>
                <a:latin typeface="Arial"/>
              </a:rPr>
              <a:t>НАЈВАЖНИЈЕ РЕГУЛИ</a:t>
            </a:r>
            <a:r>
              <a:rPr b="1" lang="sr-CS" sz="2800" spc="-1" strike="noStrike">
                <a:solidFill>
                  <a:srgbClr val="990000"/>
                </a:solidFill>
                <a:latin typeface="Arial"/>
              </a:rPr>
              <a:t>САТИ ПРОПИС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SzPct val="1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Квалит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SzPct val="1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безбедност употребе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SzPct val="1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ефикасност биљних леков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Упркос добро спровођеног регулаторног механизма за биљне лекове </a:t>
            </a:r>
            <a:r>
              <a:rPr b="1" lang="pl-PL" sz="2800" spc="-1" strike="noStrike">
                <a:solidFill>
                  <a:srgbClr val="990000"/>
                </a:solidFill>
                <a:latin typeface="Arial"/>
              </a:rPr>
              <a:t>у пракси се појављују пробле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93680"/>
            <a:ext cx="8964720" cy="63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ки примери постојећих пробл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0000"/>
                </a:solidFill>
                <a:latin typeface="Arial"/>
              </a:rPr>
              <a:t>замена кинеског </a:t>
            </a:r>
            <a:r>
              <a:rPr b="1" i="1" lang="pl-PL" sz="2000" spc="-1" strike="noStrike">
                <a:solidFill>
                  <a:srgbClr val="990000"/>
                </a:solidFill>
                <a:latin typeface="Arial"/>
              </a:rPr>
              <a:t>Illicum verum</a:t>
            </a:r>
            <a:r>
              <a:rPr b="1" lang="pl-PL" sz="2000" spc="-1" strike="noStrike">
                <a:solidFill>
                  <a:srgbClr val="990000"/>
                </a:solidFill>
                <a:latin typeface="Arial"/>
              </a:rPr>
              <a:t> Hook.f. јапанским </a:t>
            </a:r>
            <a:r>
              <a:rPr b="1" i="1" lang="pl-PL" sz="2000" spc="-1" strike="noStrike">
                <a:solidFill>
                  <a:srgbClr val="990000"/>
                </a:solidFill>
                <a:latin typeface="Arial"/>
              </a:rPr>
              <a:t>Illicum anisaticum </a:t>
            </a:r>
            <a:r>
              <a:rPr b="1" lang="pl-PL" sz="2000" spc="-1" strike="noStrike">
                <a:solidFill>
                  <a:srgbClr val="990000"/>
                </a:solidFill>
                <a:latin typeface="Arial"/>
              </a:rPr>
              <a:t>L.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Суви плодови се голим оком не могу разликовати, при чему је јапански варијетет сличан кинеском, али показује гастроентеролошку и неуролошку токсичност због присутног анизатина. 2001. године неколико случајева тровања су забележена у Холандији, Француској и Шпанији, при чему су се код беба које су грешком пиле инфуз од јапанског аниса јавиле конвулзије епилептичног тип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кардиотоксичност која се јавила при употреби </a:t>
            </a:r>
            <a:r>
              <a:rPr b="1" i="1" lang="es-ES_tradnl" sz="2000" spc="-1" strike="noStrike">
                <a:solidFill>
                  <a:srgbClr val="990000"/>
                </a:solidFill>
                <a:latin typeface="Arial"/>
              </a:rPr>
              <a:t>Aconitum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врста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лековима традиционалне кинеске медицине. Корен врста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Aconitum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се у традиционалној кинеској медицини потапа у воду или кува у врелој води са циљем да се алкалоиди аконитина хидролизују у мање токсичне аконинске деривате.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утим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ако ови процеси нису контролисани  крајњи производ је токсич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990000"/>
                </a:solidFill>
                <a:latin typeface="Arial"/>
              </a:rPr>
              <a:t>појава срчаних аритмија проузрокованих заменом боквице за </a:t>
            </a:r>
            <a:r>
              <a:rPr b="1" i="1" lang="pl-PL" sz="2000" spc="-1" strike="noStrike">
                <a:solidFill>
                  <a:srgbClr val="990000"/>
                </a:solidFill>
                <a:latin typeface="Arial"/>
              </a:rPr>
              <a:t>Digitalиs lanаtа</a:t>
            </a:r>
            <a:r>
              <a:rPr b="1" lang="pl-PL" sz="2000" spc="-1" strike="noStrike">
                <a:solidFill>
                  <a:srgbClr val="990000"/>
                </a:solidFill>
                <a:latin typeface="Arial"/>
              </a:rPr>
              <a:t>.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тврђе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да су велике количине  погрешног биљног материјала биле послате у току од 2 године на више од 150 адреса произвођача, велетрговина и дистрибутера у САД 1997.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75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Највећи проблем за примену законске регулативе у области квалитета представаљај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0000"/>
                </a:solidFill>
                <a:latin typeface="Arial"/>
              </a:rPr>
              <a:t>локални етнички биљни лекови које употребљава традиционална кинеска или ајурведска медицина</a:t>
            </a:r>
            <a:r>
              <a:rPr b="1" lang="sr-C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1" lang="sr-C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намерна или случајна употреба забрањених биљних супстанци, контаминација токсичним или синтетским су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станцама или сигнатура која не одговара употребљеним састојц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огу да с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адрже недозвољене тешке метале, токсичне супстанце или синтетске леко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Тешки метал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тичи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из саме биљке ил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у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грешком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оспели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у производ током његове изра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себан проблем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у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тешки метал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ји се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додају намерно као састојци неопходни за израду традиционалних формулација у кинеској или ајурведској медици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р. Кинеска Фармакопеј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официналн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 су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арсенов дисулфид, живин хлорид (каломел), живин сулфид, црвени живин оксид, као и формулације производа који садрже једну или више оваквих супстанц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21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8000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САД-у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од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70 ајурведских производа, 20% препарата је садржавало штетне концентрације олова, живе и арсен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. Д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руг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студиј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 -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32% увозних азијских производа који су били онечишћени недекларисаним супстанцама (ефедрин, хлорфенамин, метилтестостерон, фенацетин) или тешким металима (жива, олово, арсен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ојава штетнх синтетских супстанци (фенфлурамин, сибутрамин, метилфенидат) у биљним производима за мршављење на бази традиционалне кинеске медицин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ијски ефекат лека се оцењује исходом клиничких дупло-слепих про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ладина здравствена институција у Великој Британији </a:t>
            </a:r>
            <a:r>
              <a:rPr b="1" lang="sl-SI" sz="2400" spc="-1" strike="noStrike">
                <a:solidFill>
                  <a:srgbClr val="990000"/>
                </a:solidFill>
                <a:latin typeface="Arial"/>
              </a:rPr>
              <a:t>(Medicines and Healthcare products Rеgulatory Agеncy - MHRA),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wеб страницу Herbal Safety Nеws на којој се могу наћи упозорења која се тичу употребе појединих биљних лек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Квалитет и безбедност употребе биљних леков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 и даље изазов и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приоритет з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вој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 који се примењују на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биљн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леков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 свуда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у свету.</a:t>
            </a:r>
            <a:r>
              <a:rPr b="1" lang="sl-SI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0000"/>
                </a:solidFill>
                <a:latin typeface="Arial"/>
              </a:rPr>
              <a:t>Развој аналитичких метода за контролу квалитета биљних лекова побољшава имплементацију регулати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00"/>
                </a:solidFill>
                <a:latin typeface="Arial"/>
              </a:rPr>
              <a:t>Могући напредак био </a:t>
            </a:r>
            <a:r>
              <a:rPr b="1" lang="sl-SI" sz="2400" spc="-1" strike="noStrike">
                <a:solidFill>
                  <a:srgbClr val="990000"/>
                </a:solidFill>
                <a:latin typeface="Arial"/>
              </a:rPr>
              <a:t>увођењ</a:t>
            </a:r>
            <a:r>
              <a:rPr b="1" lang="sr-CS" sz="2400" spc="-1" strike="noStrike">
                <a:solidFill>
                  <a:srgbClr val="990000"/>
                </a:solidFill>
                <a:latin typeface="Arial"/>
              </a:rPr>
              <a:t>е</a:t>
            </a:r>
            <a:r>
              <a:rPr b="1" lang="sl-SI" sz="2400" spc="-1" strike="noStrike">
                <a:solidFill>
                  <a:srgbClr val="990000"/>
                </a:solidFill>
                <a:latin typeface="Arial"/>
              </a:rPr>
              <a:t> захтева за обавезно пре</a:t>
            </a:r>
            <a:r>
              <a:rPr b="1" lang="sr-CS" sz="2400" spc="-1" strike="noStrike">
                <a:solidFill>
                  <a:srgbClr val="990000"/>
                </a:solidFill>
                <a:latin typeface="Arial"/>
              </a:rPr>
              <a:t>т</a:t>
            </a:r>
            <a:r>
              <a:rPr b="1" lang="sl-SI" sz="2400" spc="-1" strike="noStrike">
                <a:solidFill>
                  <a:srgbClr val="990000"/>
                </a:solidFill>
                <a:latin typeface="Arial"/>
              </a:rPr>
              <a:t>клиничко и клиничко испитивање </a:t>
            </a:r>
            <a:r>
              <a:rPr b="1" lang="sr-CS" sz="2400" spc="-1" strike="noStrike">
                <a:solidFill>
                  <a:srgbClr val="990000"/>
                </a:solidFill>
                <a:latin typeface="Arial"/>
              </a:rPr>
              <a:t>биљним лековима, </a:t>
            </a:r>
            <a:r>
              <a:rPr b="1" lang="sl-SI" sz="2400" spc="-1" strike="noStrike">
                <a:solidFill>
                  <a:srgbClr val="990000"/>
                </a:solidFill>
                <a:latin typeface="Arial"/>
              </a:rPr>
              <a:t>валидираним методама које се користе </a:t>
            </a:r>
            <a:r>
              <a:rPr b="1" lang="sr-CS" sz="2400" spc="-1" strike="noStrike">
                <a:solidFill>
                  <a:srgbClr val="990000"/>
                </a:solidFill>
                <a:latin typeface="Arial"/>
              </a:rPr>
              <a:t>и </a:t>
            </a:r>
            <a:r>
              <a:rPr b="1" lang="sl-SI" sz="2400" spc="-1" strike="noStrike">
                <a:solidFill>
                  <a:srgbClr val="990000"/>
                </a:solidFill>
                <a:latin typeface="Arial"/>
              </a:rPr>
              <a:t>за конвенционалне лек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ришћењем ресурса рационалне фитотерапије постиже се да 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ређени биљни лек користи исп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мо за одговарајуће инд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исправној доз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кон процене ризика и користи од употр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0000"/>
                </a:solidFill>
                <a:latin typeface="Arial"/>
              </a:rPr>
              <a:t>Непоштовање и непознавања ових кључних елемената рационалне фитотерапи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и у погрешан закључак да је “моћ природе” прецењ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на тај нач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0000"/>
                </a:solidFill>
                <a:latin typeface="Arial"/>
              </a:rPr>
              <a:t>компромитује рационалу фитотерапиј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990000"/>
                </a:solidFill>
                <a:latin typeface="Arial"/>
              </a:rPr>
              <a:t>РАЦИОНАЛНА ФИТОТЕРАПИЈА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9647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ционални приступ анализирања традиционале употребе лековитих биљака је почела у 19.ве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ткриће биоактивних принципа - морфин, атропин, физостиг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иљне компоненте су неопходне у развоју нових лекова и да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оцијални и етички захтеви генерисали су комплексни регулаторни механизам за нове лекове којима подлежу и супстанце биљног поре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еома често је да биљна супстанца потиче из биљног материјала, али се даље полусинтезом трансформише у неку другу молекулску структури због чега то више није биљни л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0000"/>
                </a:solidFill>
                <a:latin typeface="Arial"/>
              </a:rPr>
              <a:t>РАЦИОНАЛНА ФИТОТЕРАПИЈА </a:t>
            </a:r>
            <a:br>
              <a:rPr sz="2800"/>
            </a:br>
            <a:r>
              <a:rPr b="1" lang="sr-CS" sz="2800" spc="-1" strike="noStrike">
                <a:solidFill>
                  <a:srgbClr val="990000"/>
                </a:solidFill>
                <a:latin typeface="Arial"/>
              </a:rPr>
              <a:t>разматра следећ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ГУЛАТОРНА ПИТАЊА ЗА ПРЕПАРАТЕ ОД ЛЕКОВИТИХ БИЉ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ОКУМЕНТАЦИЈУ ЗА СТАВЉАЊЕ У ПРОМЕТ ПРЕПАРАТА ОД ЛЕКОВИТИХ БИЉАКА –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ОНОГРАФИЈЕ ЛЕКОВИТИХ БИЉАКА –евалуирају употребу препарата, а не и појединачних биљ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ТЕНЦИЈАЛНЕ ИНТЕРАКЦИЈЕ СИНТЕТСКИХ ЛЕКОВА И ЛЕКОВИТИХ БИЉ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90000"/>
                </a:solidFill>
                <a:latin typeface="Arial"/>
              </a:rPr>
              <a:t>ЕКОНОМСКА ИСПЛАТИ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иљни лекови су исплатив сегмент тржиш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arch Report 2013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IO022F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anical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Plant-Derived Drugs: Global Markets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C (Business Communication Company, Inc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купно тржиште биљних лекова и лекова на бази лековитих биљака 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11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 г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21</a:t>
            </a:r>
            <a:r>
              <a:rPr b="1" lang="sr-CS" sz="32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1" lang="sr-CS" sz="3200" spc="-1" strike="noStrike">
                <a:solidFill>
                  <a:srgbClr val="990000"/>
                </a:solidFill>
                <a:latin typeface="Arial"/>
              </a:rPr>
              <a:t> милијарди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$</a:t>
            </a:r>
            <a:r>
              <a:rPr b="1" lang="sr-CS" sz="32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  предвиђе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ст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26</a:t>
            </a:r>
            <a:r>
              <a:rPr b="1" lang="sr-CS" sz="32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6 </a:t>
            </a:r>
            <a:r>
              <a:rPr b="1" lang="sr-CS" sz="3200" spc="-1" strike="noStrike">
                <a:solidFill>
                  <a:srgbClr val="990000"/>
                </a:solidFill>
                <a:latin typeface="Arial"/>
              </a:rPr>
              <a:t>милијарди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$ </a:t>
            </a:r>
            <a:r>
              <a:rPr b="1" lang="sr-CS" sz="3200" spc="-1" strike="noStrike">
                <a:solidFill>
                  <a:srgbClr val="990000"/>
                </a:solidFill>
                <a:latin typeface="Arial"/>
              </a:rPr>
              <a:t>у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2017</a:t>
            </a:r>
            <a:r>
              <a:rPr b="1" lang="sr-CS" sz="3200" spc="-1" strike="noStrike">
                <a:solidFill>
                  <a:srgbClr val="990000"/>
                </a:solidFill>
                <a:latin typeface="Arial"/>
              </a:rPr>
              <a:t>.год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2/3 прописаних биљних лекова у Немачкој су једнокомпонентни биљни лек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зан спектар биљака које улазе у састав биљних лекова у Европи – 80% једнокомпонентних биљних лекова су од само  10 биљака које се најчешће кори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 90% једнокомпонентних биљних лекова је од само 20 биљака које улазе у њихов саст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1982-1994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German Health Agency – Commision E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валуирано </a:t>
            </a:r>
            <a:r>
              <a:rPr b="1" lang="sr-CS" sz="2800" spc="-1" strike="noStrike">
                <a:solidFill>
                  <a:srgbClr val="990000"/>
                </a:solidFill>
                <a:latin typeface="Arial"/>
              </a:rPr>
              <a:t>380 лековитих биљак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кроз монограф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- препоручено </a:t>
            </a:r>
            <a:r>
              <a:rPr b="1" lang="sr-CS" sz="2800" spc="-1" strike="noStrike">
                <a:solidFill>
                  <a:srgbClr val="990000"/>
                </a:solidFill>
                <a:latin typeface="Arial"/>
              </a:rPr>
              <a:t>254 монограф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856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д 1998.год на снази је Закон о лековима у Немачкој који гарантује исти статус биљном леку као и хемијском ле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Закон захтева потврду фармаколошке ефикасности којом свака компонента доприноси укупној ефикасности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итотерапија је озакоњена у Немачкој од 1976. год као алтернативна медицинска 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2002.год. у Немачкој је спровдена анкета – 2172 испита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82% сматра да постоји </a:t>
            </a:r>
            <a:r>
              <a:rPr b="1" lang="sr-CS" sz="3200" spc="-1" strike="noStrike">
                <a:solidFill>
                  <a:srgbClr val="990000"/>
                </a:solidFill>
                <a:latin typeface="Arial"/>
              </a:rPr>
              <a:t>низак ризик од употребе биљних 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84% сматра да постоји </a:t>
            </a:r>
            <a:r>
              <a:rPr b="1" lang="sr-CS" sz="3200" spc="-1" strike="noStrike">
                <a:solidFill>
                  <a:srgbClr val="008000"/>
                </a:solidFill>
                <a:latin typeface="Arial"/>
              </a:rPr>
              <a:t>висок ризик од употребе хемијских 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 рационалној фитотерапији се прати симултана употреба синтетских лекова и лековитих биљака – почетак је био пре 20 година када су започето истраживање фармакокинетских и фармакодинамских интеркација кантариона и синтетских лекова (2000.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епарати од више лековитих биљака се теже испитују него једнокомпонентни биљни лек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ки од стандарда који су развијени у производњи биљних леко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ld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Organization Guidelines on Good Agricultural and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on Practices (GACP) for Medicinal Pl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ropean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ines Agency Guideline on Quality of Herbal Medici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al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8:19:40Z</dcterms:created>
  <dc:creator>mojkomp</dc:creator>
  <dc:description/>
  <dc:language>en-US</dc:language>
  <cp:lastModifiedBy>Snezana</cp:lastModifiedBy>
  <dcterms:modified xsi:type="dcterms:W3CDTF">2020-04-20T13:18:22Z</dcterms:modified>
  <cp:revision>63</cp:revision>
  <dc:subject/>
  <dc:title>Mihailo</dc:title>
</cp:coreProperties>
</file>